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C08-9E62-4754-B5F6-5205868A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3F3-B923-4999-B765-CA54BD6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414-E5AC-4C0A-8BC6-3122E7DA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88E-0D6B-4901-AB47-6FCC3F9B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34F-B4CE-4EC5-90F7-D78130E6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C71-7B24-4695-947D-87F49A18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713-AC64-40BA-8A7D-17F751B2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403-4D5B-44A5-813E-55019366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038-25FB-4A08-9EDB-F46D4B3D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138-F0E0-4DC3-A6EF-0EBF864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1C2-21B4-4E35-9CB7-17488B2B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89C-0E99-4A2C-9198-ED23EC0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148B-59DF-4F9A-B636-162182231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13" descr=""/>
          <p:cNvPicPr/>
          <p:nvPr/>
        </p:nvPicPr>
        <p:blipFill>
          <a:blip r:embed="rId1"/>
          <a:stretch/>
        </p:blipFill>
        <p:spPr>
          <a:xfrm>
            <a:off x="493560" y="1322280"/>
            <a:ext cx="79916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я для самостоятельного рассмот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357720" y="1599840"/>
            <a:ext cx="56433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ча 3. Точка движется по окружности радиус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 постоянной секториальной скоростью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носительно точк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’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, лежащей в плоскости окружности. Найти величину скорости точки как функцию расстояния от точк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’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до движущейся 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5857920" y="2595600"/>
            <a:ext cx="447480" cy="61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357120" y="2428920"/>
            <a:ext cx="3117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я движения – это соотношения, связывающие координаты, скорости и ускорения движущейся 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грирование уравнений движения – это нахождения координат материальной точки как функций её скоростей и ускор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чальные условия – заданные в некоторый момент времени значения координат и скоростей точки для нахождения постоянных интегр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чка движется по эллипсу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 ускорением, параллельным ос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Найти ускорение как функцию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если  заданы начальные усло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5667480" y="1976400"/>
            <a:ext cx="2333520" cy="809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1819440" cy="4474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429000" y="5072040"/>
            <a:ext cx="20001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спользуемся параметрическим уравнением эллип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дём вторые производные от этих со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500280" y="2571840"/>
            <a:ext cx="2311560" cy="642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429000" y="3571920"/>
            <a:ext cx="22431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ходим первые производные п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лее , учитывая, ускорение параллельно ос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проекция на ось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равна нулю, находим вторую производную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компоненты, используя формулу для производной произ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122480" y="4572000"/>
            <a:ext cx="7021440" cy="7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7840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уем начальные условия для х-компоненты скор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дставляем это значение в первую производн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ражаем отсюда знач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383076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357720" y="2822400"/>
            <a:ext cx="2357280" cy="463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2573280" y="3286080"/>
            <a:ext cx="4213440" cy="785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5857920" y="4086360"/>
            <a:ext cx="357120" cy="699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5"/>
          <a:stretch/>
        </p:blipFill>
        <p:spPr>
          <a:xfrm>
            <a:off x="3500280" y="5000760"/>
            <a:ext cx="20718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уем найденное знач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ходим вторую производную 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8358120" y="571680"/>
            <a:ext cx="357120" cy="69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7500960" y="1571760"/>
            <a:ext cx="357120" cy="699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1214280" y="3214800"/>
            <a:ext cx="7021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уем найденные значения дл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дставляем эти значение в найденную вторую производную у-компон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 итоге, выполнив необходимые преобразования, получ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5857920" y="714240"/>
            <a:ext cx="428760" cy="83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143000" y="3000240"/>
            <a:ext cx="702144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4572000" y="714240"/>
            <a:ext cx="428760" cy="839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1785960" y="5000760"/>
            <a:ext cx="55054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я для самостоятельного рассмот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2859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чка движется по эллипсу с полуосям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 постоянной по величине скоростью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Определить ускорение и скорость точки как функции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ча 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чка движется по эллипсу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к, что угловая скорость радиус-вектора, проведённого из центра эллипса к точке постоянна. Определить скорость точки, если в начальный момент врем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000840" y="2357280"/>
            <a:ext cx="428400" cy="61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4952880" y="3857760"/>
            <a:ext cx="2333880" cy="809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571680" y="6072120"/>
            <a:ext cx="1428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7:40:33Z</dcterms:created>
  <dc:creator>Михаил</dc:creator>
  <dc:description/>
  <dc:language>en-US</dc:language>
  <cp:lastModifiedBy>Михаил</cp:lastModifiedBy>
  <dcterms:modified xsi:type="dcterms:W3CDTF">2010-10-17T19:42:54Z</dcterms:modified>
  <cp:revision>11</cp:revision>
  <dc:subject/>
  <dc:title>Слайд 1</dc:title>
</cp:coreProperties>
</file>